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693-524A-4C99-93B4-5D258099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612-4344-4AF0-B024-DD0749B8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825-0B96-4834-B60D-D3A01397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B50-4BA7-4D66-876F-1F8F0F1B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F903-BB7E-4847-AA1D-230868F4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27FD-E38E-4DB2-83FA-550F0452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E4F5-7137-45CA-A4B5-3B92A126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7A99-F07C-4FB9-BC83-8B3827BF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9E77-8DF5-4056-A956-8BBD0583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2DAB-7DC7-444B-B114-98DDE102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A71B-9B49-42B0-8C89-354A16EC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2F5-EE1A-4606-B4C9-68DF92AB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F58F-2E56-493E-8877-603CC81D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7F3A-CEF3-4323-AB01-4AD556D3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D448-666F-4E02-9213-1FC2F686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D554-0315-4FC2-BCC6-AB49CEAA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A820-0F62-4B6B-8618-2BE85750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C8C-D573-4818-A7DA-75F5C054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E84-C323-4366-B3BA-E29E7E82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C93-32CA-42A6-89AA-D1A3D3AB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0CB-DA1E-4950-9081-AAE83322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4F9-4A26-4723-99E3-87100AF2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2E6-6AED-4494-9109-94B7EC99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292-5DDB-4F87-A62A-26DDE6D7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1ACC-DF62-4BF8-A720-36279596C6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7C92-83D0-4BC5-B793-536BED440F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УКА ЗАПОСЛЕНИХ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дентификовање потреба за обу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зличити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ниво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дентификовања потреба за обук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Организацио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реба за обуком на нивоу </a:t>
            </a: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радног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Индивидуал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Груп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дентификовање потреба за обу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Метод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дентификовања потреба за обук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смат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нтервју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ређење перформан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нализа садржаја по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ефинисање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циље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б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бор програма обук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 групе програма обу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ич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хнич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нања: руковање машинама и опре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терперсонал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пособности: комуникација, тимски рад, прегова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цептуално – интегратив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пособности: планирање, одлучивање, делег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бор програма обук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грами обуке прем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метод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Информацио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мет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Експериментал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мет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грами обуке прем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месту одржав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На радном ме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У организацији ван радног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Ван орган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рганизација програма обук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5 модел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Функционални мо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Купац модел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Матрични мо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Модел корпоративног универзите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Виртуелна тренинг орган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знање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2 типа зн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мплици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Ескплицит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4 начина размене (конверзије) зн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Социј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нтерн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Екстерн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Комбинац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обуке запослених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рсте евалу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напређење процеса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тицај на понашање и перформан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ритеријуми евалу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н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ештине и понаш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тавови и мотив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езул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нос на ангажовања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4T06:45:02Z</dcterms:modified>
  <cp:revision>167</cp:revision>
  <dc:subject/>
  <dc:title>Soft and Hard Skills Development: A Current Situation in Serbian Companies</dc:title>
</cp:coreProperties>
</file>